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010-50C0-4C54-A1E8-4B3A5DF0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FB8-9D57-4F42-BC12-DE04C69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961-3BF2-416E-A135-7D305D6F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BBC-6FC7-4587-AE0B-5122FA0C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B04-7AEC-4786-960A-0990319C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A6D-C20D-4F0F-8777-3D103374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68D-FE95-46D9-8508-CA2D11B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F9D-9211-4A53-A131-E1864C9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8EA-4E1E-46E5-8E0A-BD7F443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A61-73F3-41E2-80C5-6A9B6F5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A91-BF61-4C5C-AB8E-239C575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ADB-9C15-4273-B385-C1520F8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0BAD-6DEE-4F25-8F67-41B9AEC3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3 Tr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—as % of economy lowest on record-14.8% of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—HUGE DEFICITs -10%+ OF ECONOMY- 1.5 trillion dollar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over $10 Trillion –is that big? Deficits since 1960s except under Carter and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2-3%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8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8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rent Unemployment Rate 9%, peak post War- early 1980s 10%.  Depression?-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em today- Long Term Unemployed—social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.5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Local User</cp:lastModifiedBy>
  <dcterms:modified xsi:type="dcterms:W3CDTF">2011-11-09T17:15:57Z</dcterms:modified>
  <cp:revision>16</cp:revision>
  <dc:subject/>
  <dc:title>gdp</dc:title>
</cp:coreProperties>
</file>